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58640" y="500040"/>
            <a:ext cx="361332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5520" y="3170160"/>
            <a:ext cx="7275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02E0-CB22-4841-89CE-7A4A0A312B6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76BE-38D8-4053-8A10-B00960E5DCE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162240" y="500040"/>
            <a:ext cx="3614760" cy="2503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2320" cy="30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4460-E48E-4F44-AFF2-D15CDBC8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2C7C-BC4C-4FDB-A506-944D11AB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7A4-B1E9-4495-A93F-1BD0107E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599-606E-4C72-8D71-F42C63E4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0E06-DB70-4D4F-AC5F-8ECC6345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C50-3DAD-4DFF-A232-131C2AB8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F1AD-CB75-43CE-9030-D2AD2BDD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D71C-4DBB-4B00-A0AA-A7996042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F14B-E836-48DC-B468-3A4D5C72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CD6-274F-4E92-B9D8-9F9F1278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A71-B044-4074-9552-7D8D94F5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3C96-FB8E-4345-80F9-B666F34E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1D51-3904-4785-8839-CA0EEF04364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F0A5-E65D-4679-807C-3E51AA57B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_117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114800" y="5105160"/>
            <a:ext cx="5130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Presentado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Luis Ortigas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gosto 26</a:t>
            </a: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Comic Sans MS"/>
              </a:rPr>
              <a:t>El Proyecto Camise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049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resentación COM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413-4466-4F2C-9624-9643C6E8F7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7680" y="457200"/>
            <a:ext cx="936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Precios de Etevensa y Usuarios Iniciales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680" y="2133720"/>
            <a:ext cx="9327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4" marL="1995480" indent="-2214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tevensa    Ini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9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  1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78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800600"/>
            <a:ext cx="1523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4800600"/>
            <a:ext cx="1447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221B-A1B1-4B5C-9B3B-53492B4967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143000"/>
          <a:ext cx="99061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906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7800" y="228600"/>
            <a:ext cx="871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Estructura de Precios Gas Natural</a:t>
            </a:r>
            <a:br>
              <a:rPr sz="4000"/>
            </a:b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02EE-24E0-483C-99C1-9511F5AB17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295280"/>
          <a:ext cx="99061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906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3808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Gas Natural vs. Comb. Líquidos </a:t>
            </a: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C5F-1FC0-4EAA-8B9F-C9FE0EFE46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1504800"/>
            <a:ext cx="9410400" cy="50738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1552680"/>
            <a:ext cx="225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94280" y="1552680"/>
            <a:ext cx="252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4320" y="1542960"/>
            <a:ext cx="234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40" y="1542960"/>
            <a:ext cx="2536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5240" y="228600"/>
            <a:ext cx="9566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Comic Sans MS"/>
              </a:rPr>
              <a:t>Beneficios del Proyecto Cami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8320" y="17146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09880" y="17334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94280" y="169560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64320" y="169560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180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326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251460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ción del costo 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3389400"/>
            <a:ext cx="222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Balanza Comercial de Hidrocar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40" y="569736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la Inversión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469908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Industria mas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240" y="230508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1800" y="2517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Regal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1800" y="3389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Im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2514600"/>
            <a:ext cx="25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emisiones (CO2/SO2/N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3541680"/>
            <a:ext cx="248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me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800" y="4667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Aranc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32640" y="2525760"/>
            <a:ext cx="20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 para Reg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4691160"/>
            <a:ext cx="20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nología y Transferencia de Know-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3280" y="3389400"/>
            <a:ext cx="22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rtunidades de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150480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657864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75640" y="14922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33526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240" y="46432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5240" y="569736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FCF3-67CA-4E47-BDC6-F2E22FE3A3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7432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 en Lima y Call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3E30-7D9F-490B-ABF2-D95999F110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2209680"/>
            <a:ext cx="71816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vensa (TO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s (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cionales a la POC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do al 10</a:t>
            </a:r>
            <a:r>
              <a:rPr b="1" lang="en-US" sz="32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5029200"/>
            <a:ext cx="92948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suscritos antes de otorgar la buena pro para la explotación en enero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 = Puesta en Operación Comercial (agosto 200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adicional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do se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Estudio de Mercado de Stone &amp; Webster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 transferido de Electrop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OP de 80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514600"/>
            <a:ext cx="20574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rc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2531-9987-450A-A37F-01C26A07AF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4304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914400" y="18129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6264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ente: Estudio T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ico y de Demanda, Stone &amp; Webster, nov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8B11-A8A9-48BE-BF38-B39E68A682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280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Comic Sans MS"/>
              </a:rPr>
              <a:t>Demanda estimada de 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440" y="1371600"/>
          <a:ext cx="97408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371600"/>
                    <a:ext cx="9740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010280" y="63244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Apo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689-8D23-4AED-B166-19F80C14B6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2296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 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41A3-5258-49C0-90EA-240560A972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2437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Economí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4447-24D1-4298-877F-9E20292044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En Qué Consiste El Desarrollo Del Proyecto Camise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3040" y="2397240"/>
            <a:ext cx="8705880" cy="95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1. Explota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l Lote 8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040" y="3657600"/>
            <a:ext cx="8705880" cy="133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ansporte de Gas Natural y 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d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Gas Natural de Camisea a la Cos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3040" y="5292720"/>
            <a:ext cx="8705880" cy="121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 Gas Natural en Li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y Calla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BA2F-DE52-4162-A226-6073F7AD75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Paráme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45720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cimiento de la 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5% entre 2004 -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% entre 2010 -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% entre 2015 - 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% a partir de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s de cru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6 US$Bb 2004 –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3 2006 –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 a partir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 de descuento: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galías: 37.2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676520"/>
            <a:ext cx="4572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on: 50% de Regal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ta L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08 Inicio de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25 MMPCD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 añ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GN con PVR de US$ 0.53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er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3 TCF de 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30 MMBB de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B33F-BE88-40EA-BE54-0437B8222E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0E3-8803-4145-A0E6-FCC45480A2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0"/>
            <a:ext cx="9296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6600ff"/>
                </a:solidFill>
                <a:latin typeface="Comic Sans MS"/>
              </a:rPr>
              <a:t>Ventas, Ingresos, Regalías y Can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6600ff"/>
                </a:solidFill>
                <a:latin typeface="Comic Sans MS"/>
              </a:rPr>
              <a:t>Mercado Local y Exportaci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6095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rcado Local: 40 años         Proyecto Exportación LNG: 2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447920"/>
          <a:ext cx="990612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9061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4F5-84D9-4519-8FA7-F25BC2CBCD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A7F-DFB3-44A8-9DE1-84AAAC9ECD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360" y="684360"/>
            <a:ext cx="6748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ff"/>
                </a:solidFill>
                <a:latin typeface="Comic Sans MS"/>
              </a:rPr>
              <a:t>Algo bueno ha llegado…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95360" y="1974960"/>
            <a:ext cx="4044960" cy="3711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40320" y="2362320"/>
            <a:ext cx="36320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808080"/>
                </a:solidFill>
                <a:latin typeface="Arial"/>
              </a:rPr>
              <a:t>Una oportunidad para mejorar la economía y la calidad de vida de los peru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200" spc="-1" strike="noStrike">
                <a:solidFill>
                  <a:srgbClr val="2c8659"/>
                </a:solidFill>
                <a:latin typeface="Comic Sans MS"/>
              </a:rPr>
              <a:t>Camise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756560" y="0"/>
            <a:ext cx="214956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97920" y="4924440"/>
            <a:ext cx="1708200" cy="19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FF2B-7162-487E-ADE9-9FFFDA854513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ff"/>
                </a:solidFill>
                <a:latin typeface="Comic Sans MS"/>
              </a:rPr>
              <a:t>Uso Potencial del Gas Na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Industr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por para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Mine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alu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inación de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umo para Hierro Espo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Resi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otriz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GN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andes Proyectos de Export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tro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eneración de Energía Eléct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EBA7-BC45-4C13-81B1-A1EA59D3AC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83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(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560" y="190476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y utilización de un recurso natural de gran magn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a Balanza Comercial deficitaria de Hidrocarb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cia la reactivación de un frente de exploración en 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v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entral y el desarrollo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diversificación de fuentes energéticas a menores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5664-6BF4-4678-9012-F232E2A679F0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533160"/>
            <a:ext cx="908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0240" y="1905120"/>
            <a:ext cx="866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 fuentes de ingresos para 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tado y la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puesto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de nuevas industrias: LNG, Petroquímica,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, Hierro Esponja, entre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ibuye a la mejora del medio ambiente al reemplazar combustibles contam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A1E7-648A-4F69-BC57-E53DAF76A9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904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Balanza Comercial de Hidrocarburos</a:t>
            </a:r>
            <a:br>
              <a:rPr sz="3900"/>
            </a:b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1981–2002 (Millones US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30120" y="1523880"/>
          <a:ext cx="8998200" cy="50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523880"/>
                    <a:ext cx="89982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CFEF-1C6A-4A72-A4F1-9DC683217C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920" y="380880"/>
            <a:ext cx="8826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ff"/>
                </a:solidFill>
                <a:latin typeface="Comic Sans MS"/>
              </a:rPr>
              <a:t>Impacto de Camisea sobre la Balanza Comercial de Hidrocarburos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2920" y="1828800"/>
            <a:ext cx="9162720" cy="4906800"/>
            <a:chOff x="412920" y="1828800"/>
            <a:chExt cx="9162720" cy="4906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412920" y="1828800"/>
              <a:ext cx="916272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1828800"/>
              <a:ext cx="708660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33720" y="18288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Millones US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0E7-5F9E-4C0F-A20E-0C7E2F200F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666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Comic Sans MS"/>
              </a:rPr>
              <a:t>Prec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99E-F3F3-48BE-9EA2-AFA9F43440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6400" y="228600"/>
            <a:ext cx="912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Precios Máximos del Gas Natural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1523880"/>
            <a:ext cx="932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4" marL="2036520" indent="-226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ctor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éctrico    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a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c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94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)   Precios máximos según Contrato de Licencia. Se ajustan anualmente según una canasta de fuel oi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b)   Tarifas aplicables oficiales. Tienden a igualarse ambas tarifas hacia 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 Cuzco tend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precio para otros usu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419112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4191120"/>
            <a:ext cx="1067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77EC-60AB-4BFE-AA23-29EF43CC33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4:35:48Z</dcterms:created>
  <dc:creator>Luis Ortigas C.</dc:creator>
  <dc:description>Presentación UQAM 14 mayo 2004</dc:description>
  <dc:language>en-US</dc:language>
  <cp:lastModifiedBy>Luis E. Ortigas</cp:lastModifiedBy>
  <cp:lastPrinted>2002-02-06T13:51:36Z</cp:lastPrinted>
  <dcterms:modified xsi:type="dcterms:W3CDTF">2004-08-24T18:49:53Z</dcterms:modified>
  <cp:revision>755</cp:revision>
  <dc:subject/>
  <dc:title>EL PROYECTO CAMISEA</dc:title>
</cp:coreProperties>
</file>